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648-F2CF-463E-801B-0A11EB6C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625-1302-4EED-9438-54000AD4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0B5-2B6B-4E19-ABEB-959C3AEB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8B8-4C54-4A21-BEA0-B6C654E0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6EF-B7EC-43EC-8404-F7E1B1A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B9D-700A-4CA9-A4E9-0B6138D8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449-A8BB-48DD-9E43-BABD86AD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FC7-AE60-4759-80E9-DED0D559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FA1-A3DF-425B-B9B6-CC67F29D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C17-0782-4BAE-9E26-DB8F89B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779-8038-4337-874C-C104130C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2A3-0806-4FDF-A12E-0BD97FA3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DB3B-2334-4F89-87C9-2B3BD31C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formal.stanford.edu/jmc/history/lisp/lisp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eme.com/" TargetMode="External"/><Relationship Id="rId2" Type="http://schemas.openxmlformats.org/officeDocument/2006/relationships/hyperlink" Target="http://www.drschem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sug/index.html" TargetMode="External"/><Relationship Id="rId2" Type="http://schemas.openxmlformats.org/officeDocument/2006/relationships/hyperlink" Target="file:///tspl2d/index.html" TargetMode="External"/><Relationship Id="rId3" Type="http://schemas.openxmlformats.org/officeDocument/2006/relationships/hyperlink" Target="file:///empty.s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umbers.ss" TargetMode="External"/><Relationship Id="rId2" Type="http://schemas.openxmlformats.org/officeDocument/2006/relationships/hyperlink" Target="file:///boolean.ss" TargetMode="External"/><Relationship Id="rId3" Type="http://schemas.openxmlformats.org/officeDocument/2006/relationships/hyperlink" Target="file:///list.ss" TargetMode="External"/><Relationship Id="rId4" Type="http://schemas.openxmlformats.org/officeDocument/2006/relationships/hyperlink" Target="file:///strings.ss" TargetMode="External"/><Relationship Id="rId5" Type="http://schemas.openxmlformats.org/officeDocument/2006/relationships/hyperlink" Target="file:///vector.ss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irstclass.ss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-- An Overvi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ys Price J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 of Computing and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not an imperativ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has sequencing and assignment and you can make goto with call/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also easy to make structured looping constr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 recursion is guaranteed to be implemented stackles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ativ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not a Function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ferential transparency avo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’ll be punished if these occur during a run, even on a single 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order functions and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not an object-oriente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you can make it appear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ay to simulate oo with lamb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features, such as virtual vs. non-virtual methods, can be easily demonst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 is good for implementing abstract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program for fibonacci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elegant and clearly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program for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,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by redefining lambd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become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is a tin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is a powerful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can clarify features of oth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can clarify low-level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e is great for implementing abst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s, ideas, theorems, techniques,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John McCarthy, Stanford, 19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first described in 19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ele and Suss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198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mplementations, most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z Scheme for Windows, Sun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chem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Scheme for all plat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r.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z Scheme Users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he Scheme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LT Help Man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smal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+ 2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st-&gt;string (map integer-&gt;char '(72 101 108 108 111 32 119 111 114 108 100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ffychfyd.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ypes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Bool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chars and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random-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declared at lamb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ire at closing parenthe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sug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s let and letr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thing is Firs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and program interchang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 types within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time type ch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t your own ris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powerful tool for teaching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-- Undecidability of halt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ing is easy (parenthe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ility of data and program hel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imulate other languages and languag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19:03:34Z</dcterms:created>
  <dc:creator>Rhys Price Jones</dc:creator>
  <dc:description/>
  <dc:language>en-US</dc:language>
  <cp:lastModifiedBy>Axel Schreiner</cp:lastModifiedBy>
  <dcterms:modified xsi:type="dcterms:W3CDTF">2003-09-10T17:47:43Z</dcterms:modified>
  <cp:revision>8</cp:revision>
  <dc:subject/>
  <dc:title>PowerPoint Presentation  -  Scheme -- An Overview </dc:title>
</cp:coreProperties>
</file>