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056-90E9-42F8-BA50-883078FC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003-F09F-4220-B392-AE75731B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2C5-5DB7-4211-96C5-29616D70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18A-6582-4807-A421-3D58AE51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CEC-2A5F-464A-91D0-E8C590EE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C9F-EF3B-466D-B12F-3CE84727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9F90-CE44-42E1-BF1E-0290E277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6FD-45CB-48BD-B152-AC9E4DE0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9D63-F413-438F-89B8-3E004477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E05-8501-4524-9E48-CABFB1B5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A9E-F236-4A2E-A2A6-48D8442C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443D-D536-422F-882D-BD6F4CEA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5E17-9BC3-47F7-BBA9-D5BA3BF25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-formal.stanford.edu/jmc/history/lisp/lisp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heme.com/" TargetMode="External"/><Relationship Id="rId2" Type="http://schemas.openxmlformats.org/officeDocument/2006/relationships/hyperlink" Target="http://www.drscheme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sug/index.html" TargetMode="External"/><Relationship Id="rId2" Type="http://schemas.openxmlformats.org/officeDocument/2006/relationships/hyperlink" Target="file:///tspl2d/index.html" TargetMode="External"/><Relationship Id="rId3" Type="http://schemas.openxmlformats.org/officeDocument/2006/relationships/hyperlink" Target="file:///empty.ss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numbers.ss" TargetMode="External"/><Relationship Id="rId2" Type="http://schemas.openxmlformats.org/officeDocument/2006/relationships/hyperlink" Target="file:///boolean.ss" TargetMode="External"/><Relationship Id="rId3" Type="http://schemas.openxmlformats.org/officeDocument/2006/relationships/hyperlink" Target="file:///list.ss" TargetMode="External"/><Relationship Id="rId4" Type="http://schemas.openxmlformats.org/officeDocument/2006/relationships/hyperlink" Target="file:///strings.ss" TargetMode="External"/><Relationship Id="rId5" Type="http://schemas.openxmlformats.org/officeDocument/2006/relationships/hyperlink" Target="file:///vector.ss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firstclass.ss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e -- An Overview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hys Price J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or of Computing and Bioinforma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e is not an imperativ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t has sequencing and assignment and you can make goto with call/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also easy to make structured looping constr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il recursion is guaranteed to be implemented stackles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erativ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e is not a Function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referential transparency avoi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’ll be punished if these occur during a run, even on a single proces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order functions and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e is not an object-orien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you can make it appear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way to simulate oo with lamb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features, such as virtual vs. non-virtual methods, can be easily demonst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e is good for implementing abstract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fficient program for fibonacci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elegant and clearly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fficient program for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,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by redefining lambd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fficient becomes 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e is a tin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e is a powerful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e can clarify features of othe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e can clarify low-level 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e is great for implementing abst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s, ideas, theorems, techniques, m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John McCarthy, Stanford, 19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e first described in 19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ele and Suss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s 198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implementations, most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z Scheme for Windows, Sun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chem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Scheme for all plat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Dr.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hez Scheme Users Gu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The Scheme Programming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PLT Help Man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ry smal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+ 2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st-&gt;string (map integer-&gt;char '(72 101 108 108 111 32 119 111 114 108 100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ffychfyd.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and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Bool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chars and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random-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declared at lamb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ire at closing parenthe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 suga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as let and letr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thing is First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and program interchang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 types within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time type ch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At your own ris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powerful tool for teaching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-- Undecidability of halting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sing is easy (parenthe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hangeability of data and program hel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simulate other languages and languag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19:03:34Z</dcterms:created>
  <dc:creator>Rhys Price Jones</dc:creator>
  <dc:description/>
  <dc:language>en-US</dc:language>
  <cp:lastModifiedBy>Axel Schreiner</cp:lastModifiedBy>
  <dcterms:modified xsi:type="dcterms:W3CDTF">2003-09-10T17:47:43Z</dcterms:modified>
  <cp:revision>8</cp:revision>
  <dc:subject/>
  <dc:title>PowerPoint Presentation  -  Scheme -- An Overview </dc:title>
</cp:coreProperties>
</file>